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2636-0C7E-4E47-9FFD-78DBDE408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1C68-4772-4F77-8818-E76B177E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970A-53A3-40D8-AC3E-265A98DC1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8F95-D860-4DB3-AF67-4DE1C110E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0643-4C69-40E7-9697-42914CF39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E08C1-2B3D-4559-AC3A-1D6336B2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4AFF-B25F-4AAB-AC0A-B3C31496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B01C-40A8-40FF-9F69-DF79A9BD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3DD9-34C0-49B2-94BC-66393AF0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9FA7-E59E-4735-96B2-2179CF9E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134B7-4FBD-4D93-8C54-9450D42E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C4BF-1094-455D-9EA5-5FD21DA0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F14E-8118-4377-994C-584BEED6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68939-8D79-4F9E-A44A-8DB8489E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E38F-0FB9-4210-945A-E7B35A25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8493-A89D-49D8-B482-C15D9E066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FD8C-8B33-4125-835F-F1387EBD6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5620-7C9A-483E-B129-5BF81EA7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06D5-6E81-4BFF-8C48-056CEC19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B21F-5B13-46F8-9E25-44949479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8CBF-D163-4E30-ADA2-4D64747B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7D66-DDFD-482B-B07C-EEE2936B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C285-4B40-4ED8-AB91-7A8B1AA8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662C-35EF-499D-9376-9CA12D62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71C3-347A-4194-B397-3A265E90099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D716-AAB0-45EC-BBE9-C215A17FCE4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The theme of our lesson is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0" lang="en-GB" sz="72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r>
              <a:rPr b="0" lang="ru-RU" sz="7200" spc="-1" strike="noStrike">
                <a:solidFill>
                  <a:srgbClr val="ffffff"/>
                </a:solidFill>
                <a:latin typeface="Times New Roman"/>
              </a:rPr>
              <a:t>»</a:t>
            </a:r>
            <a:r>
              <a:rPr b="0" lang="ru-RU" sz="7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Statements: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ce ancient times Nature hasn’t served 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ural riches are unlimi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y-products of their activity clean the air we breathe, the water we drink,   the land we grow grain and vegetables 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y cities suffer from snow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st parks are cut and burn in fi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New wor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appear –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чез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ison –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я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troy –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руш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save animals -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хранить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ивотн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founded –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ыл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нова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national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l organizatio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международная организа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mmal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млекопитающе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rvive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пережить, выдерж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0" y="274680"/>
          <a:ext cx="9144000" cy="4930560"/>
        </p:xfrm>
        <a:graphic>
          <a:graphicData uri="http://schemas.openxmlformats.org/drawingml/2006/table">
            <a:tbl>
              <a:tblPr/>
              <a:tblGrid>
                <a:gridCol w="2449440"/>
                <a:gridCol w="2198880"/>
                <a:gridCol w="1676160"/>
                <a:gridCol w="2819520"/>
              </a:tblGrid>
              <a:tr h="2773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You knew this fact befo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“√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ew inform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ought different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“–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n’t understand, have ques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?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Озеро, осен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70080" y="0"/>
            <a:ext cx="643716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Earth is a garden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t’s a beautiful plac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or all living creature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or all the human race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elping Mother Eart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e can peacefully roa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e all diverse a pla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e can call our hom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epeat and read wor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tect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 защищать, охраня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tected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щищённый, находящий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 защитой, охра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dangered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ходящийся под угроз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чезновения (о виде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xtinc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отухший, увядш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estroy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руш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abitat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-  мест о распространения,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реал(животного, растения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Use the new words to complete the sentenc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gers living in the Far East of Russia have become e… spec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lamingos live in the tropics. They are water birds, so their h… is lak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names of all pr… species of Russia  are in the Red Book of plants and animal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eenpeace tries to stop those who d… natu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people cut down forests, a lot of species become  ex…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’s not easy to p… our world from air, water and soil pollu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4"/>
          <p:cNvSpPr txBox="1"/>
          <p:nvPr/>
        </p:nvSpPr>
        <p:spPr>
          <a:xfrm>
            <a:off x="971640" y="168120"/>
            <a:ext cx="763272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Find the explanation of the words: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836640"/>
          <a:ext cx="8147160" cy="5027760"/>
        </p:xfrm>
        <a:graphic>
          <a:graphicData uri="http://schemas.openxmlformats.org/drawingml/2006/table">
            <a:tbl>
              <a:tblPr/>
              <a:tblGrid>
                <a:gridCol w="3538440"/>
                <a:gridCol w="4608720"/>
              </a:tblGrid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1. protec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Bookman Old Style"/>
                        </a:rPr>
                        <a:t>a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Bookman Old Style"/>
                        </a:rPr>
                        <a:t>. dead anim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2. habita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Bookman Old Style"/>
                        </a:rPr>
                        <a:t>b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Bookman Old Style"/>
                        </a:rPr>
                        <a:t>. kill (animals), cut down (trees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3. extinc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Bookman Old Style"/>
                        </a:rPr>
                        <a:t>c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Bookman Old Style"/>
                        </a:rPr>
                        <a:t>. keep safe from har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4. protecte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Bookman Old Style"/>
                        </a:rPr>
                        <a:t>d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Bookman Old Style"/>
                        </a:rPr>
                        <a:t>. environ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5. destroy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Bookman Old Style"/>
                        </a:rPr>
                        <a:t>e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Bookman Old Style"/>
                        </a:rPr>
                        <a:t>. disappearing anim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33cc"/>
                          </a:solidFill>
                          <a:latin typeface="Century Schoolbook"/>
                        </a:rPr>
                        <a:t>6. endangered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Bookman Old Style"/>
                        </a:rPr>
                        <a:t>f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Bookman Old Style"/>
                        </a:rPr>
                        <a:t>. keeping saf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Text Box 41"/>
          <p:cNvSpPr/>
          <p:nvPr/>
        </p:nvSpPr>
        <p:spPr>
          <a:xfrm>
            <a:off x="2642400" y="6093000"/>
            <a:ext cx="38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Key: 1c, 2d, 3a, 4f, 5b, 6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1" name="Прямая со стрелкой 5"/>
          <p:cNvCxnSpPr/>
          <p:nvPr/>
        </p:nvCxnSpPr>
        <p:spPr>
          <a:xfrm>
            <a:off x="2857680" y="1357200"/>
            <a:ext cx="1643760" cy="1643760"/>
          </a:xfrm>
          <a:prstGeom prst="straightConnector1">
            <a:avLst/>
          </a:prstGeom>
          <a:ln w="38160">
            <a:solidFill>
              <a:srgbClr val="0066ff"/>
            </a:solidFill>
            <a:miter/>
            <a:tailEnd len="med" type="arrow" w="med"/>
          </a:ln>
        </p:spPr>
      </p:cxnSp>
      <p:cxnSp>
        <p:nvCxnSpPr>
          <p:cNvPr id="122" name="Прямая со стрелкой 6"/>
          <p:cNvCxnSpPr/>
          <p:nvPr/>
        </p:nvCxnSpPr>
        <p:spPr>
          <a:xfrm>
            <a:off x="2928960" y="2143080"/>
            <a:ext cx="1643760" cy="1643760"/>
          </a:xfrm>
          <a:prstGeom prst="straightConnector1">
            <a:avLst/>
          </a:prstGeom>
          <a:ln w="38160">
            <a:solidFill>
              <a:srgbClr val="0066ff"/>
            </a:solidFill>
            <a:miter/>
            <a:tailEnd len="med" type="arrow" w="med"/>
          </a:ln>
        </p:spPr>
      </p:cxnSp>
      <p:cxnSp>
        <p:nvCxnSpPr>
          <p:cNvPr id="123" name="Прямая со стрелкой 7"/>
          <p:cNvCxnSpPr/>
          <p:nvPr/>
        </p:nvCxnSpPr>
        <p:spPr>
          <a:xfrm flipV="1">
            <a:off x="2928960" y="1356840"/>
            <a:ext cx="1643760" cy="1643760"/>
          </a:xfrm>
          <a:prstGeom prst="straightConnector1">
            <a:avLst/>
          </a:prstGeom>
          <a:ln w="38160">
            <a:solidFill>
              <a:srgbClr val="0066ff"/>
            </a:solidFill>
            <a:miter/>
            <a:tailEnd len="med" type="arrow" w="med"/>
          </a:ln>
        </p:spPr>
      </p:cxnSp>
      <p:cxnSp>
        <p:nvCxnSpPr>
          <p:cNvPr id="124" name="Прямая со стрелкой 9"/>
          <p:cNvCxnSpPr/>
          <p:nvPr/>
        </p:nvCxnSpPr>
        <p:spPr>
          <a:xfrm>
            <a:off x="3429000" y="3929040"/>
            <a:ext cx="1000800" cy="1643760"/>
          </a:xfrm>
          <a:prstGeom prst="straightConnector1">
            <a:avLst/>
          </a:prstGeom>
          <a:ln w="38160">
            <a:solidFill>
              <a:srgbClr val="0066ff"/>
            </a:solidFill>
            <a:miter/>
            <a:tailEnd len="med" type="arrow" w="med"/>
          </a:ln>
        </p:spPr>
      </p:cxnSp>
      <p:cxnSp>
        <p:nvCxnSpPr>
          <p:cNvPr id="125" name="Прямая со стрелкой 11"/>
          <p:cNvCxnSpPr/>
          <p:nvPr/>
        </p:nvCxnSpPr>
        <p:spPr>
          <a:xfrm flipV="1">
            <a:off x="3857760" y="4714200"/>
            <a:ext cx="429120" cy="786600"/>
          </a:xfrm>
          <a:prstGeom prst="straightConnector1">
            <a:avLst/>
          </a:prstGeom>
          <a:ln w="38160">
            <a:solidFill>
              <a:srgbClr val="0066ff"/>
            </a:solidFill>
            <a:miter/>
            <a:tailEnd len="med" type="arrow" w="med"/>
          </a:ln>
        </p:spPr>
      </p:cxnSp>
      <p:cxnSp>
        <p:nvCxnSpPr>
          <p:cNvPr id="126" name="Прямая со стрелкой 14"/>
          <p:cNvCxnSpPr/>
          <p:nvPr/>
        </p:nvCxnSpPr>
        <p:spPr>
          <a:xfrm flipV="1">
            <a:off x="3071880" y="2071080"/>
            <a:ext cx="1286640" cy="2572200"/>
          </a:xfrm>
          <a:prstGeom prst="straightConnector1">
            <a:avLst/>
          </a:prstGeom>
          <a:ln w="38160">
            <a:solidFill>
              <a:srgbClr val="0066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ook at the new wor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rve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служи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tural riches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природные богат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ference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мешательс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crease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величива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ustrial enterprises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мышленные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прият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y-product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бочный продук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ffer from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страдать от чего-либ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xygen balance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аланс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ислор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struction 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руш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zone layer 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зоновый сл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reless interaction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гкомысленное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заимодейств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gn 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на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Questions: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 has served nature since ancient tim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id people live in harmony for thousands of years with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pollutes the air we breathe, the water we drink, the land we grow grain and vegetables 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cut and burnt in fir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man many cities suffer fro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uter</cp:lastModifiedBy>
  <dcterms:modified xsi:type="dcterms:W3CDTF">2012-11-29T03:34:30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